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CC92-1DFC-4A8A-A4FB-E68A7C921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CFAA-2071-4D47-B6A2-FA2997FF7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D638-3674-4349-A944-B8796ED05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6538-7F92-4CFF-AC71-668D79834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7516-9CF8-4EF0-9B93-66D57A639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4E1A-DBF5-4670-ABB9-8FCC394E0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E050-9B22-47B5-91BA-A6BE19C95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0F00-7B9F-4E60-B14D-A227E85E4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2EC0-9CB1-4372-B6C5-3619F01C4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1156-D8D4-43A7-879B-050D57D6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60A2-765D-4812-9CEB-70651100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A040-C284-4ABC-9614-00150936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0FEF3-CC86-4859-9228-BC7C2E544B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0" b="6306"/>
          <a:stretch/>
        </p:blipFill>
        <p:spPr>
          <a:xfrm>
            <a:off x="304920" y="609480"/>
            <a:ext cx="8458200" cy="5943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095880" y="2209680"/>
            <a:ext cx="13716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800600" y="2209680"/>
            <a:ext cx="6094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828800"/>
            <a:ext cx="6094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00400" y="2133720"/>
            <a:ext cx="76212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 Grou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14600" y="1752480"/>
            <a:ext cx="6094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209680"/>
            <a:ext cx="838080" cy="55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19320" y="1752480"/>
            <a:ext cx="6858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410080" y="1752480"/>
            <a:ext cx="6858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77120" y="1447920"/>
            <a:ext cx="30456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715000" y="1447920"/>
            <a:ext cx="763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52388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14479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5320" y="1523880"/>
            <a:ext cx="75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19520" y="1447920"/>
            <a:ext cx="7596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13372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47920" y="1523880"/>
            <a:ext cx="759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629400" y="5105520"/>
            <a:ext cx="167652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Color Scheme of Graph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5105520"/>
            <a:ext cx="137160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Font Style, Color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5181480"/>
            <a:ext cx="12189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Ar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219320" y="5334120"/>
            <a:ext cx="11430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oom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0"/>
            <a:ext cx="114300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k Graphics Libr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828800" y="0"/>
            <a:ext cx="152388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ce through Graph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85800" y="456840"/>
            <a:ext cx="2286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1219320" y="5638320"/>
            <a:ext cx="4572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3581280" y="5562360"/>
            <a:ext cx="5335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5334120" y="5409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6400800" y="563868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990720" y="456840"/>
            <a:ext cx="129528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2T16:17:14Z</dcterms:created>
  <dc:creator>Rye Schools</dc:creator>
  <dc:description/>
  <dc:language>en-US</dc:language>
  <cp:lastModifiedBy>Rye Schools</cp:lastModifiedBy>
  <dcterms:modified xsi:type="dcterms:W3CDTF">2004-02-12T18:38:55Z</dcterms:modified>
  <cp:revision>4</cp:revision>
  <dc:subject/>
  <dc:title>Slide 1</dc:title>
</cp:coreProperties>
</file>